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439C-2F4E-4131-AC79-4D471363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EF1-0C11-4327-AB25-F4207712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E01E-86C9-4A3D-A2C5-E49EED09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B00C-1108-4D8A-9D24-B309552A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5C64-4164-4B6D-9250-E390F8D4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5F37-4EC7-4109-A166-1571DEEF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D12E-3E73-4E24-B8CF-2A1D602E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C860-D58E-4422-9737-3F43DE3E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ED28-07A6-4F59-8B26-6647DEBD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1827-067F-45D1-85FD-34A45DCB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6101-CEB3-4759-A081-6565F74E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367-5426-4EF1-92B9-A56B41B7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F1A8-AC12-40A7-8E0F-3594CF620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-14400" y="-3240"/>
            <a:ext cx="9158400" cy="686772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228600" y="228600"/>
            <a:ext cx="3352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11160"/>
            <a:ext cx="92376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-34920"/>
            <a:ext cx="920592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4T21:41:17Z</dcterms:created>
  <dc:creator>Amreen Gill</dc:creator>
  <dc:description/>
  <dc:language>en-US</dc:language>
  <cp:lastModifiedBy>Amreen Gill</cp:lastModifiedBy>
  <dcterms:modified xsi:type="dcterms:W3CDTF">2012-04-17T19:08:40Z</dcterms:modified>
  <cp:revision>13</cp:revision>
  <dc:subject/>
  <dc:title>PowerPoint Presentation</dc:title>
</cp:coreProperties>
</file>